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BD39-C14D-44D2-87E2-16E69754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857C-CEDF-40D9-A44B-3B76C436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9DA5-0C80-4ECE-AE4D-20B9E635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07F7-68C6-46A6-9C9D-CFD9DCC5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2993-02AA-44C5-A65E-320FF0D5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5965-5268-4F17-8A03-C03F4BE6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A7E-97C5-4E5B-8019-90D08F6B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3061-0307-48BE-880E-AA15C4DA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AD4E-4BB1-4B41-A49E-A7F438F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EF3E-FF86-44F0-A410-C6696B42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49C0-3BBD-4B8D-9DF7-6A5025C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F6B4-1C7A-4B7E-B616-AC4AD147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9FCD-1C45-4107-B5FE-F9910A1B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E9ED-F143-401F-AB74-233ED83D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8828-A33C-4808-B936-F1A3F2F1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EE62-2815-4A6A-B3B7-AFDA1FD0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5205-A3D4-44C9-AF4E-5A8A4BDB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CED4-9BAA-49BD-ABA9-2B989C5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FB2B-3559-4583-8DB8-83D302DE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FA4F-6639-4DD3-A18B-2712AB9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3EEA-6BFB-4DD7-AC39-9AF435E3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0593-DEB7-40E1-9D0B-3A117444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07E7-EF1F-472F-A952-B5FA9C45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A050-C81B-4542-91D4-0F9A48B1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4064-1168-485E-A5A0-2008C07FDAB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B4A9-E46F-4619-961A-457D55F8D55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utin.cz/z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360" y="2133360"/>
            <a:ext cx="720072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ffff00"/>
                </a:solidFill>
                <a:latin typeface="Times New Roman"/>
              </a:rPr>
              <a:t>INTERNET A WORL WIDE WEB JAKO SOUČÁST INFORMAČNÍHO SYSTÉMU ZÁKLADNÍ ŠKOL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360" y="5444640"/>
            <a:ext cx="424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7d"/>
                </a:solidFill>
                <a:latin typeface="Arial"/>
              </a:rPr>
              <a:t>Petr Vitásek, 2004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38120" cy="45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2925720" cy="20304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116000" y="54936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plomová prá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35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ylo provedeno výzkumné še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a popis nových teoretických pří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is základních aplikací pro tvorbu 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mezení a popis struktury webových stránek, které mohou být účelnou předloh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dílčích záv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likace reálných webových stránek ZŠ Lutín na webové adrese: </a:t>
            </a:r>
            <a:r>
              <a:rPr b="0" lang="cs-CZ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lutin.cz/z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četně přílohy Diplomové práce na CD-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1970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- všechny stanovené cíle byly splně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vod do problemati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cíle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retické vstupy pro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Internet, Web, vývoj HTML a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Škola a Intern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současný Informační systém ZŠ, průzkum, portály na podporu edukačního proc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žnosti vytváření webových strán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FrontPage, Flash 5 a publikace na we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tváření webových stránek ZŠ Lu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843120" cy="795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Cíle prá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zovat stav využívání Informačního systému ZŠ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–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yzovat účast žáků a učitelů ZŠ na spolupráci při vytváření a aktualizaci webových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ovat postupy při vytváření webových stránek pro potřeby ZŠ a zařazení do výuky, nebo kroužku Infor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racovat nová řešení při tvorbě www Z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ntetizovat dílčí závěry, ke kterým jsme doš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t výsledek webových stránek ZŠ Lutín na přiloženém CD-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67680" y="476280"/>
            <a:ext cx="571680" cy="93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7056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průzkum byl proveden v únoru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odpovědělo 31 ZŠ ze 120-ti respond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elektronický dotazník s pěti otázk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1) Má Vaše ZŠ www stránk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4000" y="3573360"/>
          <a:ext cx="539928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573360"/>
                    <a:ext cx="539928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0360" y="4149720"/>
            <a:ext cx="1368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lkem 27 Z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2) Kdo Vám vytvořil webové stránk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32000" y="2708280"/>
          <a:ext cx="6624720" cy="31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708280"/>
                    <a:ext cx="66247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3) Kdo provádí aktualizaci webových strán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2708280"/>
          <a:ext cx="6624720" cy="310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708280"/>
                    <a:ext cx="66247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4) Jak často provádíte aktualizaci webových strán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32000" y="2708280"/>
          <a:ext cx="662472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708280"/>
                    <a:ext cx="6624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5) Probíhá na Vaší ZŠ zájmový kroužek informatik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- uveďte náplň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51280" y="2205000"/>
          <a:ext cx="462924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2205000"/>
                    <a:ext cx="46292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236000" y="2781360"/>
            <a:ext cx="1028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Celkem 27 Z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708280"/>
            <a:ext cx="3384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jčastější odpově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ce s Intern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ord, Excel, FrontPage a rozšiřování znalostí o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y, výukové programy a jiná multimé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rba www strá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ce na školním časop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40360" y="4941720"/>
            <a:ext cx="2490840" cy="13575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žadavky při navrhování www ZŠ Lu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tvořit na první pohled poutavé a „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živé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“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čelné, informační stránky se základními a důležitými informacemi o škole a ob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noduchost a kompatibilita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timální množství grafických 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řazení informací do vhodných katego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možnit návštěvníkům vyjádřit svůj ná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ublikovat stránky na nezávislý server nebo dle možností šk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48360" y="5589720"/>
            <a:ext cx="1295280" cy="9712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172360" y="4508640"/>
            <a:ext cx="679680" cy="7207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9:24:11Z</dcterms:created>
  <dc:creator>Garfield</dc:creator>
  <dc:description/>
  <dc:language>en-US</dc:language>
  <cp:lastModifiedBy>Garfield</cp:lastModifiedBy>
  <dcterms:modified xsi:type="dcterms:W3CDTF">2004-05-27T13:12:57Z</dcterms:modified>
  <cp:revision>10</cp:revision>
  <dc:subject/>
  <dc:title>INTERNET A WORL WIDE WEB JAKO SOUČÁST INFORMAČNÍHO SYSTÉMU ZÁKLADNÍ ŠKO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